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014473"/>
        <c:axId val="70095871"/>
      </c:barChart>
      <c:catAx>
        <c:axId val="110144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095871"/>
        <c:crosses val="autoZero"/>
        <c:auto val="1"/>
        <c:lblAlgn val="ctr"/>
        <c:lblOffset val="100"/>
        <c:noMultiLvlLbl val="0"/>
      </c:catAx>
      <c:valAx>
        <c:axId val="700958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144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1455-51DA-4844-9316-17B9A4612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CE1C-0FE8-43EA-B4BA-C2362F77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C429-DA22-4978-8111-D0872EA60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97BE-CEAF-4152-892C-C1FC79787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12C7-5994-45A5-A7BB-CE2A9102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984A-E8ED-41AB-B513-D7B1BD26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9984-D22D-432B-B958-23D06085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A269-7249-4DBC-BC4B-17CE9AAEE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AF0E-D258-4809-A918-D9F111C0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DDB2-0BA2-4B7F-B5E6-150E05BD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3F20-4F9A-4A2A-8B3B-E348555C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9030-8B2A-4CF7-B6F3-F91845BD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B925F-5FEE-4C1D-83DF-6B734E259C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