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272468"/>
        <c:axId val="97612688"/>
      </c:barChart>
      <c:catAx>
        <c:axId val="70272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12688"/>
        <c:crosses val="autoZero"/>
        <c:auto val="1"/>
        <c:lblAlgn val="ctr"/>
        <c:lblOffset val="100"/>
        <c:noMultiLvlLbl val="0"/>
      </c:catAx>
      <c:valAx>
        <c:axId val="976126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72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8A8-73FD-4D15-B8D2-1E888043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8A6-7E50-4276-8D3B-C8443582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9AA-D1E0-44FC-9E27-070C13AF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6C34-75B8-49E4-83E4-0B0A83D0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69D-8390-4C63-B694-10A8D239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A75-E637-4A54-8FEA-5D44E5FA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349-FE7A-442E-8A4E-AB5EA1F7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C58-BA02-415D-9760-5E227370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226-5E6B-4351-BAA9-2ECAAF97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56C-B883-4B8D-B1E1-C158C6AB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05E-B967-4446-835C-F1DF6189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FF8-9A03-4534-947F-E8318F6E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C6969-132E-45FE-88E4-7A9A48C905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