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3337"/>
        <c:axId val="2693893"/>
      </c:barChart>
      <c:catAx>
        <c:axId val="2933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3893"/>
        <c:crosses val="autoZero"/>
        <c:auto val="1"/>
        <c:lblAlgn val="ctr"/>
        <c:lblOffset val="100"/>
        <c:noMultiLvlLbl val="0"/>
      </c:catAx>
      <c:valAx>
        <c:axId val="26938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3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8A44-0464-4174-AF73-7940924B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5486-3F59-4D9F-A2B0-2866ABF4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1620-78C7-4DB7-8CD1-8B35DE6A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401E-F92F-4F88-8D4C-6A2DA49D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B804-7673-4782-A889-1AF97C2A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BCB8-BCA3-4B1B-A66A-17EE2219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C31C-10BE-4683-9A6F-B31C7686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28D3-1B91-449D-B11B-9CF59314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1F4B-28BC-4258-A356-D49251E6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4ABC-8A0A-45A4-8063-47DA635F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9484-492E-4FC5-93BC-EBB3560E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51A-7839-4308-92E7-330781E3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B7A17-7DC7-4A34-BB05-FF075D7336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