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F36684D-A74D-4A03-8D65-F0B28ECC1766}"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EA80A8D-648C-4770-A481-43BC486FB8A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8A68E92-E2B7-4C2F-929C-6B117937201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45DF128-9D57-461D-AC81-FA2003BA13F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4C43468-835B-4CD9-9D4E-CDDF0BC9912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B1A7F4C-44F6-4521-98FD-F173E41CE8B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F6EC79B-7288-4BBC-B496-EF5BEDA458A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9775DCB-AE4E-4071-82A7-4B816476818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158CE25-7F83-4495-8F53-C81124252BA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87B75DB-AB98-48CB-8074-0680CBFB8E6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F2BB3FE-DF4C-430D-AA36-CF938DB38F4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685A20C-428B-4F25-953D-9BE330E185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531DFA-E4E1-4C6A-9103-B3B214699A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40B3451-6EFA-4A50-A66F-3560B44926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B1C74F0-7881-4954-8BC0-FE67D81386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40B3330-26BF-443E-BFCB-3099FF971B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2298CDA-43CD-48D7-8D28-D5FE89B505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0A35682-A326-41EA-81E4-A6605A31379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BF74F47-7007-488F-A4F7-ED6F570793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2BE955A-7362-4427-9ED5-9A3D1C84F0F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86CB189-0258-4D9F-A385-E0736077CB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CDC98C8-1EEC-4EFB-BE73-8882E5E4BF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456756-62A0-4647-A709-C3874B51EC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BAE2FF6-3836-4E4C-97D4-F529339E5B8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2645760-0F3A-484C-99F5-0A5A010E5D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881E01D-2818-4946-A93E-5F3D03E717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132AEDC-95D5-4B20-B79C-42694624C7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FD1834C-10F6-4D2C-A7BB-20B074564F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9503DA-8168-4361-9F9C-A0BB6E865D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FFB878-6A59-4654-B420-7825AC718F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44856E-0278-448B-AE8C-8235AF3288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BBC8A5-F8A4-46C8-9829-B356F96A76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3DF250-9EBB-4DB5-A1ED-52B13FDA0C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866AD9-82A4-4424-A238-5ACC020B1E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3B78EF-D0CB-4ECA-B975-E7C382957B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99216-23DE-49F0-8B1D-4880A6D3E6E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59BA0-E1AA-4D1C-A450-E9F9D90DF91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692EB3DE-2831-4EC6-8BC7-1E8B41DDC6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57E1755-73BD-4E97-A1EE-249E68FDF560}"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B01ABD8-104F-4618-B5B2-7ED81FCCCB77}"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D7AA795-8D78-402C-82E4-B4BA70AC1BC2}"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497A047-6ADC-492F-A62D-D50C1CCED58D}"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F6F265-08AF-43F7-B092-ABFF38E68716}"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365DF26-91F7-4C18-BE6C-2E9190AD902B}"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2595CC1-FD3B-4034-A830-A69C41C086F0}"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0FCA74D-FB16-46CC-B053-B649A8CA04E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1832AEC-315D-4338-8609-7A9F58F263CD}"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81BA9F-E30B-4F2E-9860-BD6114B7AE2A}"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625E6FB-C7DD-4073-BCA9-5FF8DB0AAA52}"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D1E8D5C-C4DA-433B-AE02-FCA961D64AA8}"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A3BEBC3-B378-4E18-B77F-8A8C70FC510D}"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6F263F7-EF23-4901-9011-F039CF2F582B}"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4E0EF5C-3EE6-4E23-A3A3-1FAF7E0F707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6882E33-450B-4B36-9675-A863B8B26EFE}"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B5ECA48-987F-4EE3-ADB3-DA37CFEAF419}"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A6727BC8-6159-44C4-9EAB-D5F53E572EAE}"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71728073-26FF-4E2E-9C63-C0707A4467E5}"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1DEC2DF-F997-4F15-8C72-F21DE2459887}"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EEF90D5-CE56-463B-A0F4-74225A7E7E7F}"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F023A17-9C6C-40CD-96FE-D99E416ECE03}"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7A17E8A-BA80-4649-8585-25A4FC8AE01B}"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C0424BA-4ABD-4BE5-BDDB-C873D97EA76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444D6CE-F0D8-4973-87D0-07E37149E985}"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7EB0E32-D2A6-4F3C-92FB-03C6DD3418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7026B16-206B-47D5-9552-24F08000E09C}"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7923E8AB-9132-4965-8B0E-B082321B10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86307C0-9212-4C86-9BCF-B8CCFAA184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19DE2BF-C4BF-490A-8684-B03871D27B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A9FB5E2-E03C-4B40-B3A2-85D4B259D08B}"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DDB1998-3221-46B6-8FD0-56779BC096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ED55BA1-3AE4-4CA7-9F2B-A6B2F5911B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2D33394-5B7C-4348-B38C-14117E049B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82C2798-A21D-4EEF-B869-DBA3484DF6C2}"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3706706-DCB9-4DD4-A62F-B7BB504EC6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62DF8A7-85C6-4A81-BA5B-F11AF57D3D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5846258-B7EB-4F70-8337-145636E5DB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1DB45D4-E507-482C-9759-26704814CFA9}"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EB72214-879C-4F89-93E7-700441DF5E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0D79B1D-BE93-416B-8BC3-21E37C9F35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F00522C-3489-474B-A30A-A0D8E30A1E35}"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62F668F-3255-44D2-87D4-8518DDA167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89ED769-903F-4EB9-B1CB-B6D88C8D2AF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14EDC37-6044-4B8D-BF8D-D16D706B0F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0432ABB-2E61-4147-9E5D-F8CD33C342F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0214C51-72A0-419F-8C15-104DA33A1CE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34AF2A9-E44D-4ACC-8EEB-6F2033324D6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1D78FDD-B460-4FD0-B712-38553706F63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426132C-C534-4A21-BD4C-CD6B553F15D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08AA82E-54CE-4FEA-BD0A-11B4603FAC3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133C82A-79F9-498C-83B9-F4586553985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46952DC-946F-41F0-B192-B508F0B4DBF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5DB6CD2-DEE8-4B18-87DD-B51AF61BE58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2408D95-13B5-4074-93FD-F6AA513DCAB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0B088C5-73CB-427B-9C02-89FBEC432C7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B75C242-348A-4148-AC1F-AB58B6F2368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0E0F65F-CA4C-4E54-B503-02F57B6353A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6A58D72-2B31-496D-92E2-19C1063C614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090CE70-FFCD-43C9-AB05-1E70A5F0388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C8DA48B-A167-4CE6-92A6-79B58212877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5FC279-1EFA-4A5B-BECD-5FFC27564D4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E637BD7-F280-427C-9304-97FF88535FF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57221FD-9C61-433D-BFBE-B304D22B30A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39C985A-52BF-402C-88F2-517A9B35240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F87AB39-0130-40DD-8C7E-232C9AD79D2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DF9BBCF-C30E-4B09-88AA-9693B2533B4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9DA50DA-A468-4CC4-AB6D-B74162F82D8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780288D-061C-41F4-B92B-3BF22FFE92E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8ACB0E0-87C3-4AE3-976F-CD662FEC6C6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04C5685-C21F-4776-B29D-34BE14650E45}"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EA83445-3808-4473-9202-BC06E0CDF21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4C1665A-0B71-467C-94EB-0B6DEA519D6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37E1CB1-0270-4492-93CF-FA6EB2BABA2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820F38D-47F7-45E1-94C1-FCEFEAED5F5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7B4EF6A-B6E7-4249-A58F-5FB2FFEE2D5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B9E1BFB-A6E7-456B-AA9F-73FFE3E3C04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A4F5272-E0E1-49DF-99E0-0EF240735CF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B64DC3-338A-47E3-8A74-5C57F7C80E61}"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756503-40BE-4A95-90E2-B7974F8FD73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7073AD1-D0CC-4031-A151-1567A65F0CC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441B29C-951D-4397-996B-0A79DC491CF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F0FE906-29D6-4165-A6C5-8CD2AAD7C0F3}"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26BE6ED-672A-4424-B6C6-706895780CA3}"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4ECA2B-399E-4D49-B239-D66A4F55A0C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6900A62-8C29-49F3-9056-52098C8372E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A4A27D5-6F1C-4F12-9B9C-FBAA2435745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B9A689D-23E3-4792-BC3C-70C3564D9DF4}"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979FCB3-3D59-4074-B336-696FB74B0165}"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1D747E9-AEB9-4EA7-AA1E-5BA613ABB3CA}"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121BA7B-0CC7-4DB7-B4A2-B1BC3F2A4ADA}"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849C49E-7319-4DCC-83C1-6576BD190512}"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688F50F-06BE-4893-9227-8266C6CC3AE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6B02A3E-D777-467F-9BC1-9F1C2B07156E}"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85824C-905E-4EBE-8DDE-91E5CF5C5470}"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5E4872B-96A8-4997-9D7D-0A84EC9135D3}"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3B00F0C1-B6D8-4B64-96E9-C23E82EFC1EF}"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F780512-5F7C-4474-B738-DB71DCBF92AB}"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A1FF7F6-7168-4DC4-8BDD-F838747D783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FDBFD76-6622-4F46-859F-FD5F96068D4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C4DE124-BAED-4E10-94A9-A3FF0CF3648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F3DF3ED-A42D-4D4C-8BA0-F00E49FC8573}"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B01D629-7C9B-4B32-89B2-47E92AA98BC7}"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48461C5-0351-4FD8-988C-86C821BC05D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8F1C72B-B3D8-49A9-8ED1-00D789A26EFC}"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BB854C8-AAE1-41C6-9618-107A1F40994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46C91F1-76C7-4BA2-8C0A-C67C71B8B494}"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B555C85-CC9B-4F67-A1F9-887EFA187BCE}"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17F67AF3-A2AE-443E-B017-DC7B582582A4}"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3605A55-7B09-4499-8F8B-F28A0194E802}"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FE954F9-4BAD-4129-9F91-5A3981E10AEA}"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637FEBF-1016-4D5C-8AB2-BA37F1A11698}"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A99DE48-E815-449D-99D4-A1CCF738C12B}"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1F6A602-8F29-4B84-AF3B-D7017E5CC900}"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0B694C4-D76C-4B18-A5F3-045E2E764A42}"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DE662FE-4DD5-4FE8-88E4-93FFF1551CD8}"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93CF19B-7842-457F-8A9D-E3D042208D17}"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58FE458-4797-4926-BEA0-EDF96DAC72AB}"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5E966FA-485D-4406-A2B0-0DE05D5841B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F4F2867-2502-4A95-80AA-F1AAA0A9A4A8}"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