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67809"/>
        <c:axId val="6519117"/>
      </c:barChart>
      <c:catAx>
        <c:axId val="9526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117"/>
        <c:crosses val="autoZero"/>
        <c:auto val="1"/>
        <c:lblAlgn val="ctr"/>
        <c:lblOffset val="100"/>
        <c:noMultiLvlLbl val="0"/>
      </c:catAx>
      <c:valAx>
        <c:axId val="6519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D86-8AA3-4BF3-817C-731ECBF4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ED4-7D2D-4B93-8692-42C30F0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C34-0494-42AC-8612-1A19777D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111-C56D-489A-84FE-42D03F30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EDE-840F-4AAC-8D96-0CA20141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68E-771F-4D49-92FB-D917B12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1AE-4131-4904-88F2-EDA988F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F03-25BF-4522-88E2-10D883D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98-97FE-4748-AFA0-A03AD1C5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841-182A-4ED1-969B-65E735B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F86-154C-414E-8556-5E23EA7F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2FF-F8A1-4084-8A28-2352A7C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4FC5A-9110-40E1-A39A-043CCAB1F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