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57719"/>
        <c:axId val="60728110"/>
      </c:barChart>
      <c:catAx>
        <c:axId val="46757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28110"/>
        <c:crosses val="autoZero"/>
        <c:auto val="1"/>
        <c:lblAlgn val="ctr"/>
        <c:lblOffset val="100"/>
        <c:noMultiLvlLbl val="0"/>
      </c:catAx>
      <c:valAx>
        <c:axId val="60728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57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43C-F6F8-4274-A856-C3D8DF97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143-B604-4087-A837-C0774CBF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98B-F64D-41E8-AF2C-20956A97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B31-9A65-43DB-BDB4-0A6F9421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F2B-184F-405C-BCE7-4F8432D0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83F-E37A-4DDA-B29F-06776247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E43-3B79-4775-8AE6-5A89853F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0B6-7C53-4148-8F3A-3A2D3F00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18B-B8EE-431A-A5A7-E2EF906E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218-9619-4844-B46D-3DD812D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A73-7005-4951-A6D6-3406D7DD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154-E373-4D9A-9307-3DA9CD48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3CB57-4B9B-4FE1-841C-E192C4A2CD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