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97014"/>
        <c:axId val="73159318"/>
      </c:barChart>
      <c:catAx>
        <c:axId val="83997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9318"/>
        <c:crosses val="autoZero"/>
        <c:auto val="1"/>
        <c:lblAlgn val="ctr"/>
        <c:lblOffset val="100"/>
        <c:noMultiLvlLbl val="0"/>
      </c:catAx>
      <c:valAx>
        <c:axId val="73159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97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40D-2200-40DB-8BD2-4B3E9A68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FFE-85D9-4606-A370-0445B54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ADD-CB90-49A1-B58D-DF664E33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EC3-AB45-42FC-B5CE-B595DE73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244-A4EA-4769-A3DD-BAA9791B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9DE-4810-4FDE-A029-53FE0C4B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C41-1AC9-4746-8260-60E7AEF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BFA-1414-410D-A702-4CFCBCB4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092-EA0D-4E8C-A31C-2C1D4AF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154-6CD3-4517-9A16-6F76F457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883-C416-4198-B32D-879D78C6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77F-DA1A-4874-BA1E-19A6121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9CFEA-7679-4D9D-8C34-42E14C073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