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44470"/>
        <c:axId val="91482922"/>
      </c:barChart>
      <c:catAx>
        <c:axId val="68044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82922"/>
        <c:crosses val="autoZero"/>
        <c:auto val="1"/>
        <c:lblAlgn val="ctr"/>
        <c:lblOffset val="100"/>
        <c:noMultiLvlLbl val="0"/>
      </c:catAx>
      <c:valAx>
        <c:axId val="91482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44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8D8-D5B5-487C-9F91-D845D2FF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41C-11DD-4F58-950E-8D19DF88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DB7-ECED-41F1-AFF1-75C82FD4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AD2-5CB0-4456-97EA-5769CAAD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253-123E-4102-8378-8B6FB489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00D-0912-495B-AB30-ED8BE5C9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DCA-083E-46F5-A8A7-DCD25FA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0C0-6BB1-4C51-832C-BB7C477D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73A-A8CA-4049-BCE5-DDF7DC0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7F5-8CDF-4CD2-AC74-1D105D6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FD5-4E31-4721-973D-5391A8D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2F4-B606-43BD-A163-AB6858E4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E8105-2C06-4FB9-AE87-6CFF549488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