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4842"/>
        <c:axId val="1754949"/>
      </c:barChart>
      <c:catAx>
        <c:axId val="9544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4949"/>
        <c:crosses val="autoZero"/>
        <c:auto val="1"/>
        <c:lblAlgn val="ctr"/>
        <c:lblOffset val="100"/>
        <c:noMultiLvlLbl val="0"/>
      </c:catAx>
      <c:valAx>
        <c:axId val="1754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4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AE8-0F78-47DD-9C52-244018B0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88E-BF99-4B68-808B-8B748CE0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B84-0D4B-4ABF-B5E3-733F5C01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2835-EBC8-4850-A74B-22A158CC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96B-890B-4991-BE79-BDBD53F2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E4B-49A6-4583-8555-F7FED738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781-AB6F-4B04-B869-6398269F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6F7-F6CA-4FD1-B81C-2632F749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891-3AFB-4712-94B5-FF3A2346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BAD-1D25-4148-8019-F4C88A75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520-D780-44AC-B583-4E8791DE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9B6-DC6E-4C28-8DFD-B3080AEC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BB1FB-51A2-461E-B597-9B95CC3B38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